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C7F-2CC2-47E2-B8EB-A99111D7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571E-4B05-409A-A1BB-D7AA29C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061-7D76-4F11-B575-A5211A17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2A6-1880-4338-A67B-F6B6E5EA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373-6411-4D9E-842A-63F895B6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CF5-0DF5-4F3C-A4D9-CB8055B5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B016-E8C4-415E-BB2C-01544656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331A-4BB1-4DEA-8D77-1128B160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25BA-FAD9-4E20-A45C-779EAC43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F547-885E-486E-A946-7A58BD40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DB87-2FEB-433D-83C4-C698F79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9DE-D89F-4960-AF48-9711F434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8C44-57F9-4E86-B7B8-2FBA09C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DD7E-1CDA-4682-B96B-75DCE668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C90C-F490-45EA-A4E2-CABB9CAF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EBC6-B8F3-4330-80AE-A67D00C1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82844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4773960"/>
            <a:ext cx="27496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1315-3BAE-497D-AB26-10D0DE5E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9CC-91E3-46C0-96D0-6D305503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28C-9484-4312-8AF3-4364425E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E29F-B47F-4B08-AD43-1C585C47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437-824E-42A1-8AD8-89309E22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46D-CBD1-4B88-8FA8-73E1FBA5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477396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E6E0-E9E2-4F5D-8BD5-2F7B1BDE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828440"/>
            <a:ext cx="416772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4773960"/>
            <a:ext cx="85406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9D7-AD00-4CC7-856E-394F220E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AC8-78D9-4AD6-8B06-B095DCDA41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85a68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636-9852-4E6F-A979-4B1C392384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hapter 13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N AGE OF EXPANSIONISM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6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rmons Trek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mons in Uta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2195640"/>
            <a:ext cx="8540640" cy="52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7: State of Deseret established, technically in Mexican terri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 transformed into farm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8: U.S. gets Utah and Mormons at first resist U.S. gover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57: Brigham Young accepts post as territorial governor of Uta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stern Trai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0" name="Picture 4" descr="DIVI7233258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yler and Tex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548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1: John Tyler assumes presidency after William Henry Harrison’s d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breaks with Whi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4: Tyler negotiates annexation with Texas for re-election campaign iss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ate refuses to ratify because of expansion of sla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ler loses Whig nomination to Henry Cl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exation by join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6" name="Content Placeholder 3" descr="10jt_header_sm.jpeg"/>
          <p:cNvPicPr/>
          <p:nvPr/>
        </p:nvPicPr>
        <p:blipFill>
          <a:blip r:embed="rId1"/>
          <a:srcRect l="0" t="-8470" r="0" b="-8470"/>
          <a:stretch/>
        </p:blipFill>
        <p:spPr>
          <a:xfrm>
            <a:off x="228600" y="838080"/>
            <a:ext cx="854064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riumph of Polk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nd Annex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51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mocrats nominate James K. Po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k runs on expansionist plat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exation of Texas for Southern v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jurisdiction of Oregon for Northern vo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mes Birney and Liberty Party take votes away from Clay over the expansion of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k, Congress interpret his election as mandate for expa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xas annexed by joint resolution shortly before Polk inaug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iberty Party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wings an Elec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2" name="Picture 4" descr="DIVI7233TB1301"/>
          <p:cNvPicPr/>
          <p:nvPr/>
        </p:nvPicPr>
        <p:blipFill>
          <a:blip r:embed="rId1"/>
          <a:srcRect l="0" t="17363" r="0" b="277"/>
          <a:stretch/>
        </p:blipFill>
        <p:spPr>
          <a:xfrm>
            <a:off x="304920" y="2895480"/>
            <a:ext cx="8572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Election of 184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Picture 4" descr="DIVI7233TB1302"/>
          <p:cNvPicPr/>
          <p:nvPr/>
        </p:nvPicPr>
        <p:blipFill>
          <a:blip r:embed="rId1"/>
          <a:srcRect l="0" t="22220" r="0" b="4441"/>
          <a:stretch/>
        </p:blipFill>
        <p:spPr>
          <a:xfrm>
            <a:off x="380880" y="2514600"/>
            <a:ext cx="8344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6" name="Content Placeholder 3" descr="11jp_header.jpeg"/>
          <p:cNvPicPr/>
          <p:nvPr/>
        </p:nvPicPr>
        <p:blipFill>
          <a:blip r:embed="rId1"/>
          <a:srcRect l="0" t="-8559" r="0" b="-8559"/>
          <a:stretch/>
        </p:blipFill>
        <p:spPr>
          <a:xfrm>
            <a:off x="304920" y="685800"/>
            <a:ext cx="85406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Doctrine of Manifest Destin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Manifest Destiny" first used in 1845 by John O’ Sulli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d wants the U.S., His chosen nation, to become stron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s make new territories free and democra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wing American population needs 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mits to American expansion undefi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k and the Oregon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4’ 40” or fight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ate approves division of Oregon along 4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orth latitude, Treaty of 184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xpansionists condemned Polk for divi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vement to the Far We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settlement reaches Pacific in 1830s and 184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tlement encroaches on lands claimed by Mexico and Eng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orthwest Boundary Disput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6" name="Picture 4" descr="DIVI7233260"/>
          <p:cNvPicPr/>
          <p:nvPr/>
        </p:nvPicPr>
        <p:blipFill>
          <a:blip r:embed="rId1"/>
          <a:stretch/>
        </p:blipFill>
        <p:spPr>
          <a:xfrm>
            <a:off x="2133720" y="1447920"/>
            <a:ext cx="4867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 with Mexico: Outbreak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an claim to area between Nueces and Rio Grande Rivers not recognized by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exas annexation, this causes conflict between U.S. and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k orders General Zachary Taylor into disputed ar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 with Mexico: Cour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Zachary Taylor wins campaign in northern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tember, 1847: General Winfield Scott occupies Mexico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5" descr="200px-General-Winfield-Scott-(1786-1866)1835.jpeg"/>
          <p:cNvPicPr/>
          <p:nvPr/>
        </p:nvPicPr>
        <p:blipFill>
          <a:blip r:embed="rId1"/>
          <a:stretch/>
        </p:blipFill>
        <p:spPr>
          <a:xfrm>
            <a:off x="5362560" y="3637080"/>
            <a:ext cx="2540160" cy="30985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" descr="taylor.jpg.pagespeed.ce.0-rHr5t0r8.jpeg"/>
          <p:cNvPicPr/>
          <p:nvPr/>
        </p:nvPicPr>
        <p:blipFill>
          <a:blip r:embed="rId2"/>
          <a:stretch/>
        </p:blipFill>
        <p:spPr>
          <a:xfrm>
            <a:off x="2057400" y="3962520"/>
            <a:ext cx="19684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ttlement of the Mexican-American War: Te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icholas Trist, the negotiator with Mexico,  disobeys Polk’s orders to return to Washing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bruary, 1848: Treaty of Guadalupe Hidalg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o Grande becomes southern b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Mexico, California ceded to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.S. pays Mexico $15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ettlement of the Mexican-American War: Aftermat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y the U.S. did not annex all of Mex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k Thesis: racism and anti-colonial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ebner: U.S. only wanted west coast ports, no need for rest of Mex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xican War politically contentio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gs constantly criticized war eff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erners view war as aimed at increasing slavery and Southern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lmont Provis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ifest Destiny ultimately limited by racism and slavery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exican-American W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62" name="Picture 4" descr="DIVI7233263"/>
          <p:cNvPicPr/>
          <p:nvPr/>
        </p:nvPicPr>
        <p:blipFill>
          <a:blip r:embed="rId1"/>
          <a:stretch/>
        </p:blipFill>
        <p:spPr>
          <a:xfrm>
            <a:off x="1295280" y="1542960"/>
            <a:ext cx="6553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ternal Expansio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ng Americans”  link territorial growth to other material achiev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ological innovation—e.g. telegrap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portation improv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owth of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 immi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y of California gold inspires transcontinental projec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rritorial expansion wanes after 1848, economic, population growth contin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riumph of the Railro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2306160"/>
            <a:ext cx="822960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s: railroad begins displacing cana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l construction stimulates iron indust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lroads stimulate new forms of fin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red stoc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 subsi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Railroads, 1850 and 186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70" name="Picture 4" descr="DIVI7233265"/>
          <p:cNvPicPr/>
          <p:nvPr/>
        </p:nvPicPr>
        <p:blipFill>
          <a:blip r:embed="rId1"/>
          <a:stretch/>
        </p:blipFill>
        <p:spPr>
          <a:xfrm>
            <a:off x="2057400" y="1447920"/>
            <a:ext cx="506736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Industrial Revolution Takes Off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901520"/>
            <a:ext cx="8001000" cy="46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s production, the division of labor makes production more effici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ctory system emer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ther laborers in one place for super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sh w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inuous process" of manufactu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griculture becomes mechaniz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ern economy based on interaction of industry, transportation, 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rderlands of the 1830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2: Webster-Ashburton Treaty settles the northeast U.S.-Canadian boundar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begin settling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egon territory (joint U.S., English clai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Mexico territory (owned by Mexico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ifornia (owned by Mexic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DIVI7233TB1303"/>
          <p:cNvPicPr/>
          <p:nvPr/>
        </p:nvPicPr>
        <p:blipFill>
          <a:blip r:embed="rId1"/>
          <a:stretch/>
        </p:blipFill>
        <p:spPr>
          <a:xfrm>
            <a:off x="1600200" y="53352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ss Immigration Begi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-1860: 4 million Irish, Germans immigrate to U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come for higher w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nts fill low-paying jobs in port c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immigrant wages contribute to sl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reform movement results from poverty of sl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class experience unifies different ethnicities into an American workin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migration to the United States, 1820–186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83" name="Picture 6" descr="DIVI243"/>
          <p:cNvPicPr/>
          <p:nvPr/>
        </p:nvPicPr>
        <p:blipFill>
          <a:blip r:embed="rId1"/>
          <a:stretch/>
        </p:blipFill>
        <p:spPr>
          <a:xfrm>
            <a:off x="2286000" y="1828800"/>
            <a:ext cx="4448160" cy="46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ew Working Cl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306160"/>
            <a:ext cx="8153280" cy="515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40s: Factory labor begins shifting from women, children to 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migrants dominate new working cla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ployers less involved with labor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t-1837 employers demand more work for less p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ons organized to defend worker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New Working Cla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ge laborers resent discipline, continuous nature of factory 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ers cling to traditional work ha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justment to new work style was painful and took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Costs of Expans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54064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ing class poses problem for ide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for wages was assumed to be the first step toward becoming one’s own mas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lass of permanent wage-earners conflicted with old ide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expansion creates conflicts between clas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ritorial expansion creates conflicts between section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th sets of conflicts uncontroll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rritorial Expansion by th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id-Nineteenth Centur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6" name="Picture 4" descr="DIVI7233254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exas Rev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201680"/>
            <a:ext cx="854064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20s: Americans encouraged to move into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"Anglos" never fully accept Mexican government rules on slavery and Catholic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30: Mexico bans immigration from U.S. and importing sla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35: Armed rebellion breaks out after Santa Anna seems bent on using military to enforce Mexican government poli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Republic of Tex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h, 1836: Texans declare independence and the Alamo under si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, 1836: Santa Anna defeated at San Jaci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, 1836: Santa Anna’s treaty recognizes Texas' claim to territory (Mexico repudiat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as offers free land grants to U.S. settl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nexation to U.S. refused by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xas Revolu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6" name="Picture 4" descr="DIVI7233256"/>
          <p:cNvPicPr/>
          <p:nvPr/>
        </p:nvPicPr>
        <p:blipFill>
          <a:blip r:embed="rId1"/>
          <a:stretch/>
        </p:blipFill>
        <p:spPr>
          <a:xfrm>
            <a:off x="2286000" y="1371600"/>
            <a:ext cx="4533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ils of Trade and Settle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1680" y="1828440"/>
            <a:ext cx="854064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ta Fe Trail closed to U.S. travelers as a result of Mexico’s war with Tex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Trail conduit for heavy stream of settlers to the Oregon count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egon settlers demand an end to joint U.S.-British occup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Mormon Trek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estward Fligh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2122200"/>
            <a:ext cx="8540640" cy="534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urch of Jesus Christ of the Latter Day Saints founded by Joseph Smith, 18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 church seeks revival of pure aboriginal American Christian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mons persecuted for unorthodox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e New York for Nauvoo, Illino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der of Joseph Smith 184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gham Young becomes Mormon 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mons move to Great Salt Lake in Uta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2:57:10Z</dcterms:created>
  <dc:creator>CMU</dc:creator>
  <dc:description/>
  <cp:keywords/>
  <dc:language>en-US</dc:language>
  <cp:lastModifiedBy>Matthew Myers</cp:lastModifiedBy>
  <cp:lastPrinted>2012-10-11T23:32:59Z</cp:lastPrinted>
  <dcterms:modified xsi:type="dcterms:W3CDTF">2011-11-07T13:11:59Z</dcterms:modified>
  <cp:revision>14</cp:revision>
  <dc:subject/>
  <dc:title>CHAPTER 12 AN AGE OF EXPANSIONISM</dc:title>
</cp:coreProperties>
</file>